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DC9-E05B-4A6E-B497-FEB0BDF7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AA2-FB24-48F7-9705-D57A8210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378-62FE-456E-9102-1CEEF07E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F05-686F-4087-B9B4-7302F36F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E771-27BF-40F8-BAE8-2E76B979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FE7A-5278-405D-B89D-F67921B4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E2C3-0D66-4C7B-B646-6443AA8B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DCC6-157A-43EC-BC3B-E69AD701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3B9C-B712-4EE7-B3F8-65A36E04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3FAB-FB96-4181-9003-88A3F5E1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C33C-8220-4491-BC43-85CFCACF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7FE-6D99-4CD6-8B68-3A5759F7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4F57-C3F5-4C10-8917-9B39ACD1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89F5-7E0B-4B1A-AB34-9421D4FB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21B5-0D18-4658-936E-60A936D5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B672-AD55-490E-9514-90F4F8E4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DBCE-07EB-4C16-A7F6-D3EAFDD5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A97-0A94-4359-8585-7888D2FE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150-FE0E-46CF-8CA7-D081AFCC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5432-45CC-49E6-A821-88F4E93B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610-E873-4616-A84B-EB8040F6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7DD-866E-4A54-B4EB-52D03BF9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6A6-57C8-4C15-8C15-79143012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BCD-ACE3-4196-BFC0-234FE315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32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32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32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50000">
                  <a:srgbClr val="000022"/>
                </a:gs>
                <a:gs pos="100000">
                  <a:srgbClr val="0000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50000">
                  <a:srgbClr val="000048"/>
                </a:gs>
                <a:gs pos="100000">
                  <a:srgbClr val="0000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32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50000">
                  <a:srgbClr val="000048"/>
                </a:gs>
                <a:gs pos="100000">
                  <a:srgbClr val="0000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32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4B3D-1355-46B8-804A-E04BFCA1C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32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32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32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50000">
                  <a:srgbClr val="000022"/>
                </a:gs>
                <a:gs pos="100000">
                  <a:srgbClr val="0000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50000">
                  <a:srgbClr val="000048"/>
                </a:gs>
                <a:gs pos="100000">
                  <a:srgbClr val="0000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32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50000">
                  <a:srgbClr val="000048"/>
                </a:gs>
                <a:gs pos="100000">
                  <a:srgbClr val="0000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32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7727-C6FD-4B84-A461-B56159B62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32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990720"/>
          <a:ext cx="8991720" cy="5219640"/>
        </p:xfrm>
        <a:graphic>
          <a:graphicData uri="http://schemas.openxmlformats.org/drawingml/2006/table">
            <a:tbl>
              <a:tblPr/>
              <a:tblGrid>
                <a:gridCol w="1981440"/>
                <a:gridCol w="2971800"/>
                <a:gridCol w="403848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Statis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Spelled o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alculated for each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r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mensionless 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s and parame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site 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me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C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m. Cor. Coef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meter p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ok’s 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FBET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s and parame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diction 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d and parame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P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meter-PR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me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P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s-PR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Review for Sensitivity Analysis Quiz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14120" y="626760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S       Scaled Sensi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32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mmon questions that can be addressed by the methods taught here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much and what model complexity can the observations suppo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any of the estimated parameter values dominated by a single observation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model parameters are important to the things I need to predic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ata should be collected to improve the predictions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onceptual model of the system is likely to produce better predic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certain are the predic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22"/>
            </a:gs>
            <a:gs pos="50000">
              <a:srgbClr val="000032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8720"/>
            <a:ext cx="73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14 Guideli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ed common sense with new perspectives and 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ented toward clearly stating and testing all assum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hasize graphical displays that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stically val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decision ma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715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can do more with our data and models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32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Sensitivity Analysis Quiz!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Which statistics address which relations?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909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4040" y="1508040"/>
            <a:ext cx="50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ations – Parameters - Pred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20764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07648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638680"/>
            <a:ext cx="5105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75248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1828800"/>
            <a:ext cx="0" cy="380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286000"/>
            <a:ext cx="86868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verage       OP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PR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CC               CSS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k’s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FBE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4760" y="563868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ations ---------------- Pred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53320" y="6461280"/>
            <a:ext cx="41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fter Hill and Tiedeman, 2007, p. 26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32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view for model fit quiz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ical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32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Review for Uncertainty Analysis Quiz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32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57240"/>
            <a:ext cx="8547120" cy="12349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100080"/>
            <a:ext cx="8534160" cy="947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CODE_2005 documentatio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endix B, p. 231-2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32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-5505480"/>
            <a:ext cx="8556840" cy="12363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-165240"/>
            <a:ext cx="8381880" cy="14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6337440"/>
            <a:ext cx="8381880" cy="1434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32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56840" cy="1233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6095880"/>
            <a:ext cx="8381880" cy="14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32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-5473800"/>
            <a:ext cx="8556840" cy="12331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-990720"/>
            <a:ext cx="8381880" cy="14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5715000"/>
            <a:ext cx="8381880" cy="1434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32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8:49:52Z</dcterms:created>
  <dc:creator>Mary C. Hill</dc:creator>
  <dc:description/>
  <dc:language>en-US</dc:language>
  <cp:lastModifiedBy>mchill</cp:lastModifiedBy>
  <dcterms:modified xsi:type="dcterms:W3CDTF">2007-09-18T21:55:30Z</dcterms:modified>
  <cp:revision>49</cp:revision>
  <dc:subject/>
  <dc:title>Common questions that can be addressed by the methods taught here </dc:title>
</cp:coreProperties>
</file>